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AD3D-594F-468B-96C4-64CCAD954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D32C-1FF8-48F0-ABBA-25CFA0CE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A7D1-0F62-4562-921C-4FF817EE9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29D0-3059-44F8-A487-30826B561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E4C1F-34BB-40E4-AEF9-F2676AD86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886EB-D804-48AC-B54F-E3EF6440E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D7B72-F3B1-45D0-AA2E-74F1480F5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6A9BA-625C-421B-9C6E-43E0892EB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B1E62-4345-4CE6-9DD7-736EB2B8D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65363-198B-497A-B6A7-133A31823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6EAC0-07AE-4F88-9CB7-9E80BA4B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50B0-BE4D-4443-896B-A073B04D4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0C420-2C90-4DA3-A918-140854F9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EC5A3-2F85-448D-8AB9-A4E5A3BB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81BAA-A83E-45BC-BC02-AE2C4EBEA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3E8D6-9C50-4E51-B724-899BCBC1B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17951-6369-41B4-83A4-497FD2A8D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886A-DF4E-45AE-9216-E686B665C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1A36-69F2-4FA6-9EEA-9D333A98F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BE40-6BED-4F10-85AB-C9C67D9C5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F9F5-A5FD-4A47-ACD2-822DB28DD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F153-7241-45CC-B5F5-D2B43247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D9D7-E9CD-48F7-8BC1-D4B5749D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6122-6F2D-47B0-B676-7B319137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7E436-4345-4A11-9066-2FCCD8F649E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640A5-3B0D-4F1D-8C29-F376CC0783E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703dff"/>
                </a:solidFill>
                <a:latin typeface="Agent Orange"/>
              </a:rPr>
              <a:t>Mary Antonette B. Uro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3430080"/>
            <a:ext cx="7696080" cy="20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66ff"/>
                </a:solidFill>
                <a:latin typeface="Comic Sans MS"/>
              </a:rPr>
              <a:t>Student of the wee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66ff"/>
                </a:solidFill>
                <a:latin typeface="Comic Sans MS"/>
              </a:rPr>
              <a:t>Room 6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66ff"/>
                </a:solidFill>
                <a:latin typeface="Comic Sans MS"/>
              </a:rPr>
              <a:t>October 02, 201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7521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703dff"/>
                </a:solidFill>
                <a:latin typeface="Agent Orange"/>
              </a:rPr>
              <a:t>Fun Facts about Mary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1760" y="2743200"/>
            <a:ext cx="7543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7c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he has a dog named Penelop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7c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he loves to play the pian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7c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he is currently enrolled in a ballet schoo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133720" y="5181480"/>
            <a:ext cx="5638680" cy="10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Agent Orange"/>
              </a:rPr>
              <a:t>Achievement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2590920"/>
            <a:ext cx="76964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6cbe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cbe6"/>
                </a:solidFill>
                <a:latin typeface="Comic Sans MS"/>
              </a:rPr>
              <a:t>1</a:t>
            </a:r>
            <a:r>
              <a:rPr b="0" lang="en-US" sz="3200" spc="-1" strike="noStrike" baseline="30000">
                <a:solidFill>
                  <a:srgbClr val="56cbe6"/>
                </a:solidFill>
                <a:latin typeface="Comic Sans MS"/>
              </a:rPr>
              <a:t>st</a:t>
            </a:r>
            <a:r>
              <a:rPr b="0" lang="en-US" sz="3200" spc="-1" strike="noStrike">
                <a:solidFill>
                  <a:srgbClr val="56cbe6"/>
                </a:solidFill>
                <a:latin typeface="Comic Sans MS"/>
              </a:rPr>
              <a:t> placer Spelling Contest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56cbe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cbe6"/>
                </a:solidFill>
                <a:latin typeface="Comic Sans MS"/>
              </a:rPr>
              <a:t>Reader of the wee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56cbe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cbe6"/>
                </a:solidFill>
                <a:latin typeface="Comic Sans MS"/>
              </a:rPr>
              <a:t>3</a:t>
            </a:r>
            <a:r>
              <a:rPr b="0" lang="en-US" sz="3200" spc="-1" strike="noStrike" baseline="30000">
                <a:solidFill>
                  <a:srgbClr val="56cbe6"/>
                </a:solidFill>
                <a:latin typeface="Comic Sans MS"/>
              </a:rPr>
              <a:t>rd</a:t>
            </a:r>
            <a:r>
              <a:rPr b="0" lang="en-US" sz="3200" spc="-1" strike="noStrike">
                <a:solidFill>
                  <a:srgbClr val="56cbe6"/>
                </a:solidFill>
                <a:latin typeface="Comic Sans MS"/>
              </a:rPr>
              <a:t> placer Elocution Contest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447560" y="335268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Keep up the good job! </a:t>
            </a:r>
            <a:r>
              <a:rPr b="0" lang="en-US" sz="3200" spc="-1" strike="noStrike">
                <a:solidFill>
                  <a:srgbClr val="ff33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761760" y="14475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gent Orange"/>
              </a:rPr>
              <a:t>CONGRATULATIONS Mary for being the Student of the week!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" dur="250" autoRev="1" fill="hold"/>
                                        <p:tgtEl>
                                          <p:spTgt spid="1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1T08:43:49Z</dcterms:created>
  <dc:creator>madrid</dc:creator>
  <dc:description/>
  <dc:language>en-US</dc:language>
  <cp:lastModifiedBy>madrid</cp:lastModifiedBy>
  <dcterms:modified xsi:type="dcterms:W3CDTF">2012-10-01T14:02:19Z</dcterms:modified>
  <cp:revision>3</cp:revision>
  <dc:subject/>
  <dc:title>Mary Antonette B. Uro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